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5.wmf" ContentType="image/x-wmf"/>
  <Override PartName="/ppt/media/image10.png" ContentType="image/png"/>
  <Override PartName="/ppt/media/image27.jpeg" ContentType="image/jpeg"/>
  <Override PartName="/ppt/media/image28.png" ContentType="image/png"/>
  <Override PartName="/ppt/media/image16.jpeg" ContentType="image/jpeg"/>
  <Override PartName="/ppt/media/image24.jpeg" ContentType="image/jpe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4.jpeg" ContentType="image/jpe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pyright © 2010 The HDF Gro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3272-BDBA-40AA-B4F8-2094FACC969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D4C3-0510-4DC8-A705-0236B508EF0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85DF-ADCE-443F-A9E6-89ACC82FA1A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24080" y="760320"/>
            <a:ext cx="4725720" cy="35434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54000"/>
            <a:ext cx="537696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7C3B-8523-45A9-9349-0FC3D93453D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4240" y="722160"/>
            <a:ext cx="4800600" cy="36007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1120" cy="43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4B6F-5AF0-4F6C-B11D-FC4ED7F72E4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6D1BB-F729-430A-8B9A-A7D99DC552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7183-8F24-479F-9C97-A2F44278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A191-B261-4389-81C1-1184A400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CEB5-3BE5-418E-9F28-16C04B25D1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831-8FD6-40B5-8951-7D1B9D695C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0AE-3B4B-4CE0-9D8D-DAF3A3F5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BE8-4AB3-4F8B-B7AD-97487D0D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A8E-AB5D-4411-B45D-21223FC1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CEA-53A4-430F-BA4F-07EB827E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2FF-1B77-4C75-A33B-7CD1ED54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938-FB8E-4893-8698-1CEB66A5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2C7B-632B-4EE6-A72A-66C82711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065-3EAD-4D69-AE0E-5B4C2515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610-7D2A-43F6-8BF0-8F410A18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09C-42B4-42D8-9BED-2DDCA25B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73E-4CF0-41F1-AA49-EF27B548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33B-D2AA-4BE9-9394-CC0D6BC30E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9096-44AE-4DE8-BB60-2D299F60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4079-8ACF-4EC5-91EB-4938F0A1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B041-962C-4560-92C5-555688ED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F111-881F-4AB5-AE34-88D4B0E6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7D8A-6A00-41C4-8B1C-E192EADC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C59FD-6999-47EB-9352-F93CF244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3536-8918-4E54-B4D3-A231DAC1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A224-0EF6-4CF7-9F19-5803270B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44B1-B7A7-43D9-A917-38E55A29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7E46-CADE-456E-99AD-5416BA2F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FBA3-41C7-4C80-805F-AE794A5A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26E3-7E34-4148-B437-A173840E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F98A-7623-452F-8210-4BBE08E9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0B26C-58FB-4C39-9143-1D33E32C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EF050-A1B6-4888-94A0-F567B5D4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C682-71FC-451D-82E6-AA32B619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35E2-FDFA-47A7-B428-F04BEEE5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4158B-0F37-4051-8A3A-952775AD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D1DD-2A5D-4F77-9814-5790E224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8109-8F54-4FF4-A728-BE87003A00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99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56" descr=""/>
          <p:cNvPicPr/>
          <p:nvPr/>
        </p:nvPicPr>
        <p:blipFill>
          <a:blip r:embed="rId6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1371600" y="231120"/>
            <a:ext cx="2133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AE3E-603C-4314-87B0-DF4B5A70973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4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ril 29-30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EDDB-62F8-4D97-8A9A-CEE7C5C8D5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7"/>
          </p:nvPr>
        </p:nvSpPr>
        <p:spPr>
          <a:xfrm>
            <a:off x="2438280" y="6629040"/>
            <a:ext cx="4267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5 Technical Consulting Meeting for EMR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 to HDF5</a:t>
            </a:r>
            <a:br>
              <a:rPr sz="48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ession Three </a:t>
            </a:r>
            <a:br>
              <a:rPr sz="3600"/>
            </a:br>
            <a:br>
              <a:rPr sz="36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DF5 Software Overview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0BEA-8DAD-4ADF-9741-AE38B08637BC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Date Placeholder 4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4772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Object AP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chema + Data Valu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0" y="974520"/>
            <a:ext cx="21240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fi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5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5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5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5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5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5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5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1D48-AA8B-47E6-A566-6806FF535F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3861360" y="152388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3234600" y="2038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Data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5" descr="C:\Users\Administrator\AppData\Local\Microsoft\Windows\Temporary Internet Files\Content.IE5\DWAJU5RV\MC900057376[1].wmf"/>
          <p:cNvPicPr/>
          <p:nvPr/>
        </p:nvPicPr>
        <p:blipFill>
          <a:blip r:embed="rId1"/>
          <a:stretch/>
        </p:blipFill>
        <p:spPr>
          <a:xfrm>
            <a:off x="399960" y="2500200"/>
            <a:ext cx="2400480" cy="14572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8"/>
          <p:cNvSpPr/>
          <p:nvPr/>
        </p:nvSpPr>
        <p:spPr>
          <a:xfrm>
            <a:off x="3775680" y="46036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3486240" y="408636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3026880" y="357984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2886480" y="30672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Data</a:t>
            </a:r>
            <a:r>
              <a:rPr b="1" lang="en-US" sz="2400" spc="-1" strike="noStrike" u="sng">
                <a:solidFill>
                  <a:srgbClr val="0000bf"/>
                </a:solidFill>
                <a:uFillTx/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3052440" y="25480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Data</a:t>
            </a:r>
            <a:r>
              <a:rPr b="1" lang="en-US" sz="2400" spc="-1" strike="noStrike" u="sng">
                <a:solidFill>
                  <a:srgbClr val="0000bf"/>
                </a:solidFill>
                <a:uFillTx/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04920" y="990720"/>
            <a:ext cx="40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bf"/>
                </a:solidFill>
                <a:uFillTx/>
                <a:latin typeface="Comic Sans MS"/>
              </a:rPr>
              <a:t>HDF5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Placeholder 2"/>
          <p:cNvSpPr/>
          <p:nvPr/>
        </p:nvSpPr>
        <p:spPr>
          <a:xfrm>
            <a:off x="6105600" y="974880"/>
            <a:ext cx="251460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 Examp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5Fcre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5D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5Tget_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5Sc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5Aget_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5G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5Lit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Placeholder 2"/>
          <p:cNvSpPr/>
          <p:nvPr/>
        </p:nvSpPr>
        <p:spPr>
          <a:xfrm>
            <a:off x="681120" y="5057640"/>
            <a:ext cx="7472160" cy="1495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4040"/>
                </a:solidFill>
                <a:latin typeface="Lucida Console"/>
              </a:rPr>
              <a:t>hid_t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 file_id, group_i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file_id  = H5Fcreate(“file.h5”, …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group_id = H5Gcreate(file_id, “January”, …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sm for passing information between applications and HDF5 softw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erty information is not directly related to the HDF5 data model objects or data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bs” that control the advanced features of HDF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7C3E-574D-4E6C-B0C5-25C7D621CD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7" descr="C:\Users\Administrator\AppData\Local\Microsoft\Windows\Temporary Internet Files\Content.IE5\Q470DV7S\MP900387813[1].jpg"/>
          <p:cNvPicPr/>
          <p:nvPr/>
        </p:nvPicPr>
        <p:blipFill>
          <a:blip r:embed="rId1"/>
          <a:stretch/>
        </p:blipFill>
        <p:spPr>
          <a:xfrm>
            <a:off x="2743200" y="3514680"/>
            <a:ext cx="3657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ion Prope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when HDF5 Object is created; persist in HDF5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ze of symbol table B-trees for F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rage layout for Datas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Prope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when HDF5 Object is opened; persist until Object clo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le dri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 conversion buffer si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erty Lists exposed b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5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F6D0-6B3F-4CCD-986B-8EF272579F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General Programming Paradig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erties of object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ptional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fin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ion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fault values used if none are define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 is opened or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 is accessed, possibly many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 is 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762E-2B1B-4D6D-935A-59C3EA0F37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Placeholder 2"/>
          <p:cNvSpPr/>
          <p:nvPr/>
        </p:nvSpPr>
        <p:spPr>
          <a:xfrm>
            <a:off x="114480" y="4968720"/>
            <a:ext cx="8896320" cy="1495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hid_t plist_id, dset_i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plist_id = H5Pcreate(H5P_DATASET_CREA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status   = H5Pset_chunk(plist_id, 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dset_id = H5Dcreate(group_id,”1”,…,plist_id,H5P_DEFA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1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7E78-3270-435F-8A0E-E7A3C65C52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set:  Library and Format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Group 88"/>
          <p:cNvGrpSpPr/>
          <p:nvPr/>
        </p:nvGrpSpPr>
        <p:grpSpPr>
          <a:xfrm>
            <a:off x="609480" y="1143000"/>
            <a:ext cx="7848720" cy="5334120"/>
            <a:chOff x="609480" y="1143000"/>
            <a:chExt cx="7848720" cy="5334120"/>
          </a:xfrm>
        </p:grpSpPr>
        <p:sp>
          <p:nvSpPr>
            <p:cNvPr id="240" name="Rectangle 4"/>
            <p:cNvSpPr/>
            <p:nvPr/>
          </p:nvSpPr>
          <p:spPr>
            <a:xfrm>
              <a:off x="4572000" y="1143000"/>
              <a:ext cx="3886200" cy="5334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5"/>
            <p:cNvSpPr/>
            <p:nvPr/>
          </p:nvSpPr>
          <p:spPr>
            <a:xfrm>
              <a:off x="609480" y="1143000"/>
              <a:ext cx="3886200" cy="5334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Group 90"/>
            <p:cNvGrpSpPr/>
            <p:nvPr/>
          </p:nvGrpSpPr>
          <p:grpSpPr>
            <a:xfrm>
              <a:off x="1523880" y="1295280"/>
              <a:ext cx="1904760" cy="685800"/>
              <a:chOff x="1523880" y="1295280"/>
              <a:chExt cx="1904760" cy="685800"/>
            </a:xfrm>
          </p:grpSpPr>
          <p:sp>
            <p:nvSpPr>
              <p:cNvPr id="243" name="Rectangle 76"/>
              <p:cNvSpPr/>
              <p:nvPr/>
            </p:nvSpPr>
            <p:spPr>
              <a:xfrm>
                <a:off x="1523880" y="1700280"/>
                <a:ext cx="1828800" cy="28080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3920" rIns="313920" tIns="123840" bIns="123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nteger  32bit  LE     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77"/>
              <p:cNvSpPr/>
              <p:nvPr/>
            </p:nvSpPr>
            <p:spPr>
              <a:xfrm>
                <a:off x="1523880" y="1295280"/>
                <a:ext cx="190476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3920" rIns="313920" tIns="154080" bIns="154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HDF5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Datatyp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87"/>
            <p:cNvGrpSpPr/>
            <p:nvPr/>
          </p:nvGrpSpPr>
          <p:grpSpPr>
            <a:xfrm>
              <a:off x="1066680" y="2743200"/>
              <a:ext cx="2743200" cy="1447920"/>
              <a:chOff x="1066680" y="2743200"/>
              <a:chExt cx="2743200" cy="1447920"/>
            </a:xfrm>
          </p:grpSpPr>
          <p:sp>
            <p:nvSpPr>
              <p:cNvPr id="246" name="Rectangle 62"/>
              <p:cNvSpPr/>
              <p:nvPr/>
            </p:nvSpPr>
            <p:spPr>
              <a:xfrm>
                <a:off x="1066680" y="2743200"/>
                <a:ext cx="2743200" cy="144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3920" rIns="313920" tIns="0" bIns="156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63"/>
              <p:cNvSpPr/>
              <p:nvPr/>
            </p:nvSpPr>
            <p:spPr>
              <a:xfrm>
                <a:off x="1334880" y="3124080"/>
                <a:ext cx="506160" cy="27432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3920" rIns="313920" tIns="109800" bIns="15696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64"/>
              <p:cNvSpPr/>
              <p:nvPr/>
            </p:nvSpPr>
            <p:spPr>
              <a:xfrm>
                <a:off x="1218960" y="2743200"/>
                <a:ext cx="69228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3920" rIns="313920" tIns="152640" bIns="152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an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74"/>
              <p:cNvSpPr/>
              <p:nvPr/>
            </p:nvSpPr>
            <p:spPr>
              <a:xfrm>
                <a:off x="2439720" y="3853080"/>
                <a:ext cx="1065240" cy="27432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66400" rIns="266400" tIns="133200" bIns="13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im_2 = 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67"/>
              <p:cNvSpPr/>
              <p:nvPr/>
            </p:nvSpPr>
            <p:spPr>
              <a:xfrm>
                <a:off x="2327040" y="2743200"/>
                <a:ext cx="125424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3920" rIns="313920" tIns="152640" bIns="152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imens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66"/>
              <p:cNvSpPr/>
              <p:nvPr/>
            </p:nvSpPr>
            <p:spPr>
              <a:xfrm>
                <a:off x="2438280" y="3154680"/>
                <a:ext cx="1066680" cy="27432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66400" rIns="266400" tIns="133200" bIns="13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im_0 = 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Rectangle 65"/>
              <p:cNvSpPr/>
              <p:nvPr/>
            </p:nvSpPr>
            <p:spPr>
              <a:xfrm>
                <a:off x="2438280" y="3505320"/>
                <a:ext cx="1066680" cy="27432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66400" rIns="266400" tIns="133200" bIns="13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im_1 = 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Text Box 77"/>
            <p:cNvSpPr/>
            <p:nvPr/>
          </p:nvSpPr>
          <p:spPr>
            <a:xfrm>
              <a:off x="1523880" y="2286000"/>
              <a:ext cx="190476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HDF5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Picture 85" descr="array.png"/>
            <p:cNvPicPr/>
            <p:nvPr/>
          </p:nvPicPr>
          <p:blipFill>
            <a:blip r:embed="rId1"/>
            <a:stretch/>
          </p:blipFill>
          <p:spPr>
            <a:xfrm>
              <a:off x="4758120" y="1795320"/>
              <a:ext cx="3395160" cy="224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68"/>
          <p:cNvSpPr/>
          <p:nvPr/>
        </p:nvSpPr>
        <p:spPr>
          <a:xfrm>
            <a:off x="2819520" y="4957920"/>
            <a:ext cx="1523880" cy="279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6400" rIns="266400" tIns="133200" bIns="13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= 32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9"/>
          <p:cNvSpPr/>
          <p:nvPr/>
        </p:nvSpPr>
        <p:spPr>
          <a:xfrm>
            <a:off x="2795760" y="5307120"/>
            <a:ext cx="1522080" cy="2808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6400" rIns="266400" tIns="133200" bIns="13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sure = 9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0"/>
          <p:cNvSpPr/>
          <p:nvPr/>
        </p:nvSpPr>
        <p:spPr>
          <a:xfrm>
            <a:off x="2795760" y="5657760"/>
            <a:ext cx="1547640" cy="279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6400" rIns="266400" tIns="133200" bIns="13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mp =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1"/>
          <p:cNvSpPr/>
          <p:nvPr/>
        </p:nvSpPr>
        <p:spPr>
          <a:xfrm>
            <a:off x="2948040" y="4648320"/>
            <a:ext cx="1268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2640" bIns="152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2"/>
          <p:cNvSpPr/>
          <p:nvPr/>
        </p:nvSpPr>
        <p:spPr>
          <a:xfrm>
            <a:off x="782640" y="5230800"/>
            <a:ext cx="1479600" cy="2811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24200" bIns="12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un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75"/>
          <p:cNvSpPr/>
          <p:nvPr/>
        </p:nvSpPr>
        <p:spPr>
          <a:xfrm>
            <a:off x="981000" y="4921200"/>
            <a:ext cx="976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2640" bIns="152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32"/>
          <p:cNvSpPr/>
          <p:nvPr/>
        </p:nvSpPr>
        <p:spPr>
          <a:xfrm>
            <a:off x="457200" y="4648320"/>
            <a:ext cx="2133720" cy="1600200"/>
          </a:xfrm>
          <a:prstGeom prst="ellipse">
            <a:avLst/>
          </a:prstGeom>
          <a:noFill/>
          <a:ln w="25560">
            <a:solidFill>
              <a:srgbClr val="ff0000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 Layers – Languages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B230-F358-4A33-86E3-015E6B2AA5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itle 8"/>
          <p:cNvSpPr/>
          <p:nvPr/>
        </p:nvSpPr>
        <p:spPr>
          <a:xfrm>
            <a:off x="114300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18"/>
          <p:cNvSpPr/>
          <p:nvPr/>
        </p:nvSpPr>
        <p:spPr>
          <a:xfrm>
            <a:off x="1500120" y="4486320"/>
            <a:ext cx="6143760" cy="512640"/>
          </a:xfrm>
          <a:prstGeom prst="pi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Library Intern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19"/>
          <p:cNvSpPr/>
          <p:nvPr/>
        </p:nvSpPr>
        <p:spPr>
          <a:xfrm>
            <a:off x="2319480" y="979560"/>
            <a:ext cx="4495680" cy="850680"/>
          </a:xfrm>
          <a:prstGeom prst="pie">
            <a:avLst/>
          </a:prstGeom>
          <a:solidFill>
            <a:srgbClr val="78b832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er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lowchart: Document 13"/>
          <p:cNvSpPr/>
          <p:nvPr/>
        </p:nvSpPr>
        <p:spPr>
          <a:xfrm>
            <a:off x="3973680" y="5713560"/>
            <a:ext cx="1196640" cy="772920"/>
          </a:xfrm>
          <a:prstGeom prst="flowChartDocument">
            <a:avLst/>
          </a:prstGeom>
          <a:solidFill>
            <a:srgbClr val="8c3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14"/>
          <p:cNvSpPr/>
          <p:nvPr/>
        </p:nvSpPr>
        <p:spPr>
          <a:xfrm>
            <a:off x="1509840" y="4962600"/>
            <a:ext cx="6143400" cy="514440"/>
          </a:xfrm>
          <a:prstGeom prst="pi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Virtual File I/O Dri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4"/>
          <p:cNvSpPr/>
          <p:nvPr/>
        </p:nvSpPr>
        <p:spPr>
          <a:xfrm>
            <a:off x="4105440" y="1838160"/>
            <a:ext cx="1609560" cy="1076400"/>
          </a:xfrm>
          <a:prstGeom prst="pi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 Java Object Pac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Up-Down Arrow 35" descr=""/>
          <p:cNvPicPr/>
          <p:nvPr/>
        </p:nvPicPr>
        <p:blipFill>
          <a:blip r:embed="rId1"/>
          <a:stretch/>
        </p:blipFill>
        <p:spPr>
          <a:xfrm>
            <a:off x="719280" y="1822320"/>
            <a:ext cx="579240" cy="3670560"/>
          </a:xfrm>
          <a:prstGeom prst="rect">
            <a:avLst/>
          </a:prstGeom>
          <a:ln w="0">
            <a:noFill/>
          </a:ln>
        </p:spPr>
      </p:pic>
      <p:sp>
        <p:nvSpPr>
          <p:cNvPr id="273" name="Freeform 38"/>
          <p:cNvSpPr/>
          <p:nvPr/>
        </p:nvSpPr>
        <p:spPr>
          <a:xfrm>
            <a:off x="1500120" y="2914560"/>
            <a:ext cx="1147680" cy="1076400"/>
          </a:xfrm>
          <a:prstGeom prst="pi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ortran 9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24"/>
          <p:cNvSpPr/>
          <p:nvPr/>
        </p:nvSpPr>
        <p:spPr>
          <a:xfrm>
            <a:off x="1500120" y="3973680"/>
            <a:ext cx="6143760" cy="512640"/>
          </a:xfrm>
          <a:prstGeom prst="pi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Object APIs (in 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27"/>
          <p:cNvSpPr/>
          <p:nvPr/>
        </p:nvSpPr>
        <p:spPr>
          <a:xfrm>
            <a:off x="61920" y="5486400"/>
            <a:ext cx="9082080" cy="2095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28"/>
          <p:cNvSpPr/>
          <p:nvPr/>
        </p:nvSpPr>
        <p:spPr>
          <a:xfrm>
            <a:off x="2647800" y="2905200"/>
            <a:ext cx="981360" cy="1076400"/>
          </a:xfrm>
          <a:prstGeom prst="pi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29"/>
          <p:cNvSpPr/>
          <p:nvPr/>
        </p:nvSpPr>
        <p:spPr>
          <a:xfrm>
            <a:off x="3624120" y="2905200"/>
            <a:ext cx="2119320" cy="1076400"/>
          </a:xfrm>
          <a:prstGeom prst="pi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va HDF5 Interface (JHI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30"/>
          <p:cNvSpPr/>
          <p:nvPr/>
        </p:nvSpPr>
        <p:spPr>
          <a:xfrm>
            <a:off x="6743880" y="2914560"/>
            <a:ext cx="1000080" cy="1076400"/>
          </a:xfrm>
          <a:prstGeom prst="pie">
            <a:avLst/>
          </a:prstGeom>
          <a:solidFill>
            <a:srgbClr val="bf9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5p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39"/>
          <p:cNvSpPr/>
          <p:nvPr/>
        </p:nvSpPr>
        <p:spPr>
          <a:xfrm>
            <a:off x="5743440" y="2900520"/>
            <a:ext cx="1071720" cy="1090440"/>
          </a:xfrm>
          <a:prstGeom prst="pie">
            <a:avLst/>
          </a:prstGeom>
          <a:solidFill>
            <a:srgbClr val="bf9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4080" bIns="6408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TLAB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Up-Down Arrow 37" descr=""/>
          <p:cNvPicPr/>
          <p:nvPr/>
        </p:nvPicPr>
        <p:blipFill>
          <a:blip r:embed="rId2"/>
          <a:stretch/>
        </p:blipFill>
        <p:spPr>
          <a:xfrm>
            <a:off x="7418520" y="1816200"/>
            <a:ext cx="573120" cy="3676680"/>
          </a:xfrm>
          <a:prstGeom prst="rect">
            <a:avLst/>
          </a:prstGeom>
          <a:ln w="0">
            <a:noFill/>
          </a:ln>
        </p:spPr>
      </p:pic>
      <p:pic>
        <p:nvPicPr>
          <p:cNvPr id="281" name="Up-Down Arrow 40" descr=""/>
          <p:cNvPicPr/>
          <p:nvPr/>
        </p:nvPicPr>
        <p:blipFill>
          <a:blip r:embed="rId3"/>
          <a:stretch/>
        </p:blipFill>
        <p:spPr>
          <a:xfrm>
            <a:off x="7961400" y="1816200"/>
            <a:ext cx="57924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  Layers – Tools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7DDA-E4E9-4E37-BF63-27E94DB496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itle 8"/>
          <p:cNvSpPr/>
          <p:nvPr/>
        </p:nvSpPr>
        <p:spPr>
          <a:xfrm>
            <a:off x="114300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18"/>
          <p:cNvSpPr/>
          <p:nvPr/>
        </p:nvSpPr>
        <p:spPr>
          <a:xfrm>
            <a:off x="1500120" y="4486320"/>
            <a:ext cx="6143760" cy="512640"/>
          </a:xfrm>
          <a:prstGeom prst="pi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Library Intern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9"/>
          <p:cNvSpPr/>
          <p:nvPr/>
        </p:nvSpPr>
        <p:spPr>
          <a:xfrm>
            <a:off x="3052800" y="979560"/>
            <a:ext cx="4495680" cy="850680"/>
          </a:xfrm>
          <a:prstGeom prst="pie">
            <a:avLst/>
          </a:prstGeom>
          <a:solidFill>
            <a:srgbClr val="00843c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lowchart: Document 13"/>
          <p:cNvSpPr/>
          <p:nvPr/>
        </p:nvSpPr>
        <p:spPr>
          <a:xfrm>
            <a:off x="3973680" y="5713560"/>
            <a:ext cx="1196640" cy="772920"/>
          </a:xfrm>
          <a:prstGeom prst="flowChartDocument">
            <a:avLst/>
          </a:prstGeom>
          <a:solidFill>
            <a:srgbClr val="8c3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14"/>
          <p:cNvSpPr/>
          <p:nvPr/>
        </p:nvSpPr>
        <p:spPr>
          <a:xfrm>
            <a:off x="1509840" y="4962600"/>
            <a:ext cx="6143400" cy="514440"/>
          </a:xfrm>
          <a:prstGeom prst="pi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Virtual File I/O Dri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34"/>
          <p:cNvSpPr/>
          <p:nvPr/>
        </p:nvSpPr>
        <p:spPr>
          <a:xfrm>
            <a:off x="5943600" y="1838160"/>
            <a:ext cx="1609560" cy="1076400"/>
          </a:xfrm>
          <a:prstGeom prst="pi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 Java Object Pac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38"/>
          <p:cNvSpPr/>
          <p:nvPr/>
        </p:nvSpPr>
        <p:spPr>
          <a:xfrm>
            <a:off x="1500120" y="2914560"/>
            <a:ext cx="1300320" cy="1076400"/>
          </a:xfrm>
          <a:prstGeom prst="pie">
            <a:avLst/>
          </a:prstGeom>
          <a:solidFill>
            <a:srgbClr val="0084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5dum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24"/>
          <p:cNvSpPr/>
          <p:nvPr/>
        </p:nvSpPr>
        <p:spPr>
          <a:xfrm>
            <a:off x="1500120" y="3973680"/>
            <a:ext cx="6143760" cy="512640"/>
          </a:xfrm>
          <a:prstGeom prst="pi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Object APIs (in 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7"/>
          <p:cNvSpPr/>
          <p:nvPr/>
        </p:nvSpPr>
        <p:spPr>
          <a:xfrm>
            <a:off x="61920" y="5486400"/>
            <a:ext cx="9082080" cy="2095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28"/>
          <p:cNvSpPr/>
          <p:nvPr/>
        </p:nvSpPr>
        <p:spPr>
          <a:xfrm>
            <a:off x="2879640" y="2897280"/>
            <a:ext cx="596880" cy="1076400"/>
          </a:xfrm>
          <a:prstGeom prst="pie">
            <a:avLst/>
          </a:prstGeom>
          <a:solidFill>
            <a:srgbClr val="0084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5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29"/>
          <p:cNvSpPr/>
          <p:nvPr/>
        </p:nvSpPr>
        <p:spPr>
          <a:xfrm>
            <a:off x="5591160" y="2905200"/>
            <a:ext cx="1990800" cy="1076400"/>
          </a:xfrm>
          <a:prstGeom prst="pi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Java HDF5 Interface (JHI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41"/>
          <p:cNvSpPr/>
          <p:nvPr/>
        </p:nvSpPr>
        <p:spPr>
          <a:xfrm>
            <a:off x="3573360" y="2905200"/>
            <a:ext cx="1301760" cy="1076400"/>
          </a:xfrm>
          <a:prstGeom prst="pie">
            <a:avLst/>
          </a:prstGeom>
          <a:solidFill>
            <a:srgbClr val="0084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5rep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42"/>
          <p:cNvSpPr/>
          <p:nvPr/>
        </p:nvSpPr>
        <p:spPr>
          <a:xfrm>
            <a:off x="4941720" y="2897280"/>
            <a:ext cx="568440" cy="1076400"/>
          </a:xfrm>
          <a:prstGeom prst="pie">
            <a:avLst/>
          </a:prstGeom>
          <a:solidFill>
            <a:srgbClr val="0084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ility &amp; Robus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s on many platforms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ux and UNIX works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ows, Mac OS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ays, VMS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distributed-memory clu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As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ily regression tests on key platf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ets NASA’s highest technology readiness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platform = architecture + OS + compi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9EBD-7F5B-4608-92FE-3B6DD117CC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04800" y="152280"/>
            <a:ext cx="701064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 Layers – Project Domain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77E0-5C9A-41EA-8E79-72C3B9B2A4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itle 8"/>
          <p:cNvSpPr/>
          <p:nvPr/>
        </p:nvSpPr>
        <p:spPr>
          <a:xfrm>
            <a:off x="114300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18"/>
          <p:cNvSpPr/>
          <p:nvPr/>
        </p:nvSpPr>
        <p:spPr>
          <a:xfrm>
            <a:off x="2228760" y="4335480"/>
            <a:ext cx="6143760" cy="1131840"/>
          </a:xfrm>
          <a:prstGeom prst="pie">
            <a:avLst/>
          </a:prstGeom>
          <a:solidFill>
            <a:srgbClr val="0000ff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9"/>
          <p:cNvSpPr/>
          <p:nvPr/>
        </p:nvSpPr>
        <p:spPr>
          <a:xfrm>
            <a:off x="3305160" y="3467160"/>
            <a:ext cx="4495680" cy="852480"/>
          </a:xfrm>
          <a:prstGeom prst="pie">
            <a:avLst/>
          </a:prstGeom>
          <a:solidFill>
            <a:srgbClr val="78b832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uilding Temperature Monitoring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2" descr="C:\Users\Administrator\AppData\Local\Microsoft\Windows\Temporary Internet Files\Content.IE5\YFS9K5HA\MC900078625[1].wmf"/>
          <p:cNvPicPr/>
          <p:nvPr/>
        </p:nvPicPr>
        <p:blipFill>
          <a:blip r:embed="rId1"/>
          <a:stretch/>
        </p:blipFill>
        <p:spPr>
          <a:xfrm>
            <a:off x="2438280" y="981000"/>
            <a:ext cx="733680" cy="2227320"/>
          </a:xfrm>
          <a:prstGeom prst="rect">
            <a:avLst/>
          </a:prstGeom>
          <a:ln w="0">
            <a:noFill/>
          </a:ln>
        </p:spPr>
      </p:pic>
      <p:sp>
        <p:nvSpPr>
          <p:cNvPr id="309" name="Cloud Callout 24"/>
          <p:cNvSpPr/>
          <p:nvPr/>
        </p:nvSpPr>
        <p:spPr>
          <a:xfrm>
            <a:off x="157320" y="981000"/>
            <a:ext cx="2071440" cy="2486160"/>
          </a:xfrm>
          <a:prstGeom prst="cloudCallout">
            <a:avLst>
              <a:gd name="adj1" fmla="val 72902"/>
              <a:gd name="adj2" fmla="val -44560"/>
            </a:avLst>
          </a:prstGeom>
          <a:solidFill>
            <a:srgbClr val="00843c"/>
          </a:solidFill>
          <a:ln w="936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nsor read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ca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at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lowchart: Document 25"/>
          <p:cNvSpPr/>
          <p:nvPr/>
        </p:nvSpPr>
        <p:spPr>
          <a:xfrm>
            <a:off x="4538520" y="5646600"/>
            <a:ext cx="1686240" cy="868680"/>
          </a:xfrm>
          <a:prstGeom prst="flowChartDocument">
            <a:avLst/>
          </a:prstGeom>
          <a:solidFill>
            <a:srgbClr val="8c3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61920" y="5486400"/>
            <a:ext cx="9082080" cy="2095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14"/>
          <p:cNvSpPr/>
          <p:nvPr/>
        </p:nvSpPr>
        <p:spPr>
          <a:xfrm>
            <a:off x="2400480" y="3186000"/>
            <a:ext cx="5715000" cy="1133640"/>
          </a:xfrm>
          <a:prstGeom prst="pie">
            <a:avLst/>
          </a:prstGeom>
          <a:solidFill>
            <a:srgbClr val="948a54"/>
          </a:solidFill>
          <a:ln w="28440">
            <a:solidFill>
              <a:srgbClr val="000000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aveReading(building, location, value, d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etAverageReading(building , start_date, end_d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15"/>
          <p:cNvSpPr/>
          <p:nvPr/>
        </p:nvSpPr>
        <p:spPr>
          <a:xfrm>
            <a:off x="8067600" y="3208320"/>
            <a:ext cx="107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Building Sensor A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57" descr="h5model.tif"/>
          <p:cNvPicPr/>
          <p:nvPr/>
        </p:nvPicPr>
        <p:blipFill>
          <a:blip r:embed="rId2"/>
          <a:stretch/>
        </p:blipFill>
        <p:spPr>
          <a:xfrm>
            <a:off x="1504800" y="4888080"/>
            <a:ext cx="247176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Freeform 59"/>
          <p:cNvSpPr/>
          <p:nvPr/>
        </p:nvSpPr>
        <p:spPr>
          <a:xfrm>
            <a:off x="3305160" y="2317680"/>
            <a:ext cx="4495680" cy="852480"/>
          </a:xfrm>
          <a:prstGeom prst="pie">
            <a:avLst/>
          </a:prstGeom>
          <a:solidFill>
            <a:srgbClr val="78b832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uilding Temperature Monitoring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04800" y="152280"/>
            <a:ext cx="701064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 Layers – CFD Domain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B3F9-81AD-4D29-A288-9EE11005E6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itle 8"/>
          <p:cNvSpPr/>
          <p:nvPr/>
        </p:nvSpPr>
        <p:spPr>
          <a:xfrm>
            <a:off x="114300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18"/>
          <p:cNvSpPr/>
          <p:nvPr/>
        </p:nvSpPr>
        <p:spPr>
          <a:xfrm>
            <a:off x="2228760" y="4335480"/>
            <a:ext cx="6143760" cy="1131840"/>
          </a:xfrm>
          <a:prstGeom prst="pie">
            <a:avLst/>
          </a:prstGeom>
          <a:solidFill>
            <a:srgbClr val="0000ff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2" descr="C:\Users\Administrator\AppData\Local\Microsoft\Windows\Temporary Internet Files\Content.IE5\YFS9K5HA\MC900078625[1].wmf"/>
          <p:cNvPicPr/>
          <p:nvPr/>
        </p:nvPicPr>
        <p:blipFill>
          <a:blip r:embed="rId1"/>
          <a:stretch/>
        </p:blipFill>
        <p:spPr>
          <a:xfrm>
            <a:off x="2438280" y="981000"/>
            <a:ext cx="733680" cy="2227320"/>
          </a:xfrm>
          <a:prstGeom prst="rect">
            <a:avLst/>
          </a:prstGeom>
          <a:ln w="0">
            <a:noFill/>
          </a:ln>
        </p:spPr>
      </p:pic>
      <p:sp>
        <p:nvSpPr>
          <p:cNvPr id="322" name="Cloud Callout 24"/>
          <p:cNvSpPr/>
          <p:nvPr/>
        </p:nvSpPr>
        <p:spPr>
          <a:xfrm>
            <a:off x="157320" y="981000"/>
            <a:ext cx="2071440" cy="2486160"/>
          </a:xfrm>
          <a:prstGeom prst="cloudCallout">
            <a:avLst>
              <a:gd name="adj1" fmla="val 72902"/>
              <a:gd name="adj2" fmla="val -44560"/>
            </a:avLst>
          </a:prstGeom>
          <a:solidFill>
            <a:srgbClr val="00843c"/>
          </a:solidFill>
          <a:ln w="936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undar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low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eometry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urbulenc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lowchart: Document 25"/>
          <p:cNvSpPr/>
          <p:nvPr/>
        </p:nvSpPr>
        <p:spPr>
          <a:xfrm>
            <a:off x="4538520" y="5646600"/>
            <a:ext cx="1686240" cy="868680"/>
          </a:xfrm>
          <a:prstGeom prst="flowChartDocument">
            <a:avLst/>
          </a:prstGeom>
          <a:solidFill>
            <a:srgbClr val="8c3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61920" y="5486400"/>
            <a:ext cx="9082080" cy="2095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14"/>
          <p:cNvSpPr/>
          <p:nvPr/>
        </p:nvSpPr>
        <p:spPr>
          <a:xfrm>
            <a:off x="2438280" y="3201840"/>
            <a:ext cx="5715000" cy="1133640"/>
          </a:xfrm>
          <a:prstGeom prst="pie">
            <a:avLst/>
          </a:prstGeom>
          <a:solidFill>
            <a:srgbClr val="948a54"/>
          </a:solidFill>
          <a:ln w="28440">
            <a:solidFill>
              <a:srgbClr val="000000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lvl="1" marL="45720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CGNS:  CFD General Not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http://www.grc.nasa.gov/WWW/cgns/inde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59"/>
          <p:cNvSpPr/>
          <p:nvPr/>
        </p:nvSpPr>
        <p:spPr>
          <a:xfrm>
            <a:off x="3286080" y="2152800"/>
            <a:ext cx="2467080" cy="1039680"/>
          </a:xfrm>
          <a:prstGeom prst="pie">
            <a:avLst/>
          </a:prstGeom>
          <a:solidFill>
            <a:srgbClr val="78b832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y Computational Fluid Dynamics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16"/>
          <p:cNvSpPr/>
          <p:nvPr/>
        </p:nvSpPr>
        <p:spPr>
          <a:xfrm>
            <a:off x="5910120" y="2152800"/>
            <a:ext cx="2062440" cy="1039680"/>
          </a:xfrm>
          <a:prstGeom prst="pie">
            <a:avLst/>
          </a:prstGeom>
          <a:solidFill>
            <a:srgbClr val="78b832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Your CFD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3" descr="C:\Users\Administrator\AppData\Local\Microsoft\Windows\Temporary Internet Files\Content.IE5\Q470DV7S\MC900078738[1].wmf"/>
          <p:cNvPicPr/>
          <p:nvPr/>
        </p:nvPicPr>
        <p:blipFill>
          <a:blip r:embed="rId2"/>
          <a:stretch/>
        </p:blipFill>
        <p:spPr>
          <a:xfrm>
            <a:off x="7451640" y="1440000"/>
            <a:ext cx="1650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Purpose To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4840" y="128916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iarize yo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HDF5 and i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abil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  Help you underst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HDF5 might b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to your d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challen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79FA-6797-4552-A1A3-7E26CDF0A7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3" descr="C:\Users\Administrator\AppData\Local\Microsoft\Windows\Temporary Internet Files\Content.IE5\Q470DV7S\MC900195542[1].wmf"/>
          <p:cNvPicPr/>
          <p:nvPr/>
        </p:nvPicPr>
        <p:blipFill>
          <a:blip r:embed="rId1"/>
          <a:stretch/>
        </p:blipFill>
        <p:spPr>
          <a:xfrm>
            <a:off x="4748040" y="3429000"/>
            <a:ext cx="3297240" cy="2971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3460680" y="914400"/>
            <a:ext cx="56228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4800" y="152280"/>
            <a:ext cx="701064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 Layers – Voxel Domain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D94B-1391-4449-848F-4566E97ECC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itle 8"/>
          <p:cNvSpPr/>
          <p:nvPr/>
        </p:nvSpPr>
        <p:spPr>
          <a:xfrm>
            <a:off x="114300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8"/>
          <p:cNvSpPr/>
          <p:nvPr/>
        </p:nvSpPr>
        <p:spPr>
          <a:xfrm>
            <a:off x="2228760" y="4724280"/>
            <a:ext cx="6143760" cy="743040"/>
          </a:xfrm>
          <a:prstGeom prst="pie">
            <a:avLst/>
          </a:prstGeom>
          <a:solidFill>
            <a:srgbClr val="0000ff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Cloud Callout 24"/>
          <p:cNvSpPr/>
          <p:nvPr/>
        </p:nvSpPr>
        <p:spPr>
          <a:xfrm>
            <a:off x="157320" y="981000"/>
            <a:ext cx="2071440" cy="2486160"/>
          </a:xfrm>
          <a:prstGeom prst="cloudCallout">
            <a:avLst>
              <a:gd name="adj1" fmla="val 72902"/>
              <a:gd name="adj2" fmla="val -44560"/>
            </a:avLst>
          </a:prstGeom>
          <a:solidFill>
            <a:srgbClr val="00843c"/>
          </a:solidFill>
          <a:ln w="936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oxel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luid simulation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olume renderin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lowchart: Document 25"/>
          <p:cNvSpPr/>
          <p:nvPr/>
        </p:nvSpPr>
        <p:spPr>
          <a:xfrm>
            <a:off x="4538520" y="5646600"/>
            <a:ext cx="1686240" cy="868680"/>
          </a:xfrm>
          <a:prstGeom prst="flowChartDocument">
            <a:avLst/>
          </a:prstGeom>
          <a:solidFill>
            <a:srgbClr val="8c3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2"/>
          <p:cNvSpPr/>
          <p:nvPr/>
        </p:nvSpPr>
        <p:spPr>
          <a:xfrm>
            <a:off x="61920" y="5486400"/>
            <a:ext cx="9082080" cy="2095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4"/>
          <p:cNvSpPr/>
          <p:nvPr/>
        </p:nvSpPr>
        <p:spPr>
          <a:xfrm>
            <a:off x="2438280" y="3211560"/>
            <a:ext cx="5715000" cy="1495440"/>
          </a:xfrm>
          <a:prstGeom prst="pie">
            <a:avLst/>
          </a:prstGeom>
          <a:solidFill>
            <a:srgbClr val="948a54"/>
          </a:solidFill>
          <a:ln w="28440">
            <a:solidFill>
              <a:srgbClr val="000000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113400" bIns="113400" anchor="ctr">
            <a:noAutofit/>
          </a:bodyPr>
          <a:p>
            <a:pPr lvl="1" marL="45720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Field3D:  an open source library for storing voxel data developed by Sony Pictures Imageworks to replace three different in-house file forma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http://opensource.imageworks.com/?p=field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704880" y="2467080"/>
            <a:ext cx="700200" cy="6998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C:\Users\Administrator\AppData\Local\Microsoft\Windows\Temporary Internet Files\Content.IE5\YFS9K5HA\MC900078625[1].wmf"/>
          <p:cNvPicPr/>
          <p:nvPr/>
        </p:nvPicPr>
        <p:blipFill>
          <a:blip r:embed="rId2"/>
          <a:stretch/>
        </p:blipFill>
        <p:spPr>
          <a:xfrm>
            <a:off x="2438280" y="981000"/>
            <a:ext cx="733680" cy="2227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9" descr="323_jpg-copy.jpg"/>
          <p:cNvPicPr/>
          <p:nvPr/>
        </p:nvPicPr>
        <p:blipFill>
          <a:blip r:embed="rId3"/>
          <a:stretch/>
        </p:blipFill>
        <p:spPr>
          <a:xfrm>
            <a:off x="3352680" y="833400"/>
            <a:ext cx="4210200" cy="2360520"/>
          </a:xfrm>
          <a:prstGeom prst="rect">
            <a:avLst/>
          </a:prstGeom>
          <a:ln w="0">
            <a:noFill/>
          </a:ln>
        </p:spPr>
      </p:pic>
      <p:sp>
        <p:nvSpPr>
          <p:cNvPr id="341" name="TextBox 20"/>
          <p:cNvSpPr/>
          <p:nvPr/>
        </p:nvSpPr>
        <p:spPr>
          <a:xfrm>
            <a:off x="7486560" y="1838160"/>
            <a:ext cx="179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 in Wonder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work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eld3D Programmer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51CC-BC6F-47BF-96EC-0948A0670B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5" descr="field3d.tiff"/>
          <p:cNvPicPr/>
          <p:nvPr/>
        </p:nvPicPr>
        <p:blipFill>
          <a:blip r:embed="rId1"/>
          <a:stretch/>
        </p:blipFill>
        <p:spPr>
          <a:xfrm>
            <a:off x="4476600" y="990720"/>
            <a:ext cx="4159440" cy="5411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field3d-pg1.tiff"/>
          <p:cNvPicPr/>
          <p:nvPr/>
        </p:nvPicPr>
        <p:blipFill>
          <a:blip r:embed="rId2"/>
          <a:stretch/>
        </p:blipFill>
        <p:spPr>
          <a:xfrm>
            <a:off x="304920" y="898560"/>
            <a:ext cx="3644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0" descr="OMI-Aura_L3-OMTO3e_2005m1214_v002-2006m0929t143855_ColumnAmountO3.jpg"/>
          <p:cNvPicPr/>
          <p:nvPr/>
        </p:nvPicPr>
        <p:blipFill>
          <a:blip r:embed="rId1"/>
          <a:stretch/>
        </p:blipFill>
        <p:spPr>
          <a:xfrm>
            <a:off x="195120" y="947880"/>
            <a:ext cx="8643960" cy="46908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04800" y="152280"/>
            <a:ext cx="701064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 Layers – EOS Domain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5A7F-39EB-4A57-8981-E060B0C9E1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itle 8"/>
          <p:cNvSpPr/>
          <p:nvPr/>
        </p:nvSpPr>
        <p:spPr>
          <a:xfrm>
            <a:off x="114300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8"/>
          <p:cNvSpPr/>
          <p:nvPr/>
        </p:nvSpPr>
        <p:spPr>
          <a:xfrm>
            <a:off x="2228760" y="4335480"/>
            <a:ext cx="6143760" cy="1131840"/>
          </a:xfrm>
          <a:prstGeom prst="pie">
            <a:avLst/>
          </a:prstGeom>
          <a:solidFill>
            <a:srgbClr val="0000ff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2" descr="C:\Users\Administrator\AppData\Local\Microsoft\Windows\Temporary Internet Files\Content.IE5\YFS9K5HA\MC900078625[1].wmf"/>
          <p:cNvPicPr/>
          <p:nvPr/>
        </p:nvPicPr>
        <p:blipFill>
          <a:blip r:embed="rId2"/>
          <a:stretch/>
        </p:blipFill>
        <p:spPr>
          <a:xfrm>
            <a:off x="2438280" y="981000"/>
            <a:ext cx="733680" cy="2227320"/>
          </a:xfrm>
          <a:prstGeom prst="rect">
            <a:avLst/>
          </a:prstGeom>
          <a:ln w="0">
            <a:noFill/>
          </a:ln>
        </p:spPr>
      </p:pic>
      <p:sp>
        <p:nvSpPr>
          <p:cNvPr id="354" name="Cloud Callout 24"/>
          <p:cNvSpPr/>
          <p:nvPr/>
        </p:nvSpPr>
        <p:spPr>
          <a:xfrm>
            <a:off x="157320" y="981000"/>
            <a:ext cx="2071440" cy="2486160"/>
          </a:xfrm>
          <a:prstGeom prst="cloudCallout">
            <a:avLst>
              <a:gd name="adj1" fmla="val 72902"/>
              <a:gd name="adj2" fmla="val -44560"/>
            </a:avLst>
          </a:prstGeom>
          <a:solidFill>
            <a:srgbClr val="00843c"/>
          </a:solidFill>
          <a:ln w="936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w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VRefle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strument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lowchart: Document 25"/>
          <p:cNvSpPr/>
          <p:nvPr/>
        </p:nvSpPr>
        <p:spPr>
          <a:xfrm>
            <a:off x="4538520" y="5646600"/>
            <a:ext cx="1686240" cy="868680"/>
          </a:xfrm>
          <a:prstGeom prst="flowChartDocument">
            <a:avLst/>
          </a:prstGeom>
          <a:solidFill>
            <a:srgbClr val="8c3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61920" y="5486400"/>
            <a:ext cx="9082080" cy="2095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14"/>
          <p:cNvSpPr/>
          <p:nvPr/>
        </p:nvSpPr>
        <p:spPr>
          <a:xfrm>
            <a:off x="2438280" y="3201840"/>
            <a:ext cx="5715000" cy="1133640"/>
          </a:xfrm>
          <a:prstGeom prst="pie">
            <a:avLst/>
          </a:prstGeom>
          <a:solidFill>
            <a:srgbClr val="948a54"/>
          </a:solidFill>
          <a:ln w="28440">
            <a:solidFill>
              <a:srgbClr val="000000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lvl="1" marL="457200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NASA HDF-EOS5 A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http://hdfeos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59"/>
          <p:cNvSpPr/>
          <p:nvPr/>
        </p:nvSpPr>
        <p:spPr>
          <a:xfrm>
            <a:off x="3286080" y="2152800"/>
            <a:ext cx="2467080" cy="1039680"/>
          </a:xfrm>
          <a:prstGeom prst="pie">
            <a:avLst/>
          </a:prstGeom>
          <a:solidFill>
            <a:srgbClr val="78b832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ASA Data Product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16"/>
          <p:cNvSpPr/>
          <p:nvPr/>
        </p:nvSpPr>
        <p:spPr>
          <a:xfrm>
            <a:off x="5910120" y="2152800"/>
            <a:ext cx="2062440" cy="1039680"/>
          </a:xfrm>
          <a:prstGeom prst="pie">
            <a:avLst/>
          </a:prstGeom>
          <a:solidFill>
            <a:srgbClr val="78b832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mage Modeling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Box 15"/>
          <p:cNvSpPr/>
          <p:nvPr/>
        </p:nvSpPr>
        <p:spPr>
          <a:xfrm>
            <a:off x="331560" y="6066000"/>
            <a:ext cx="64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MI-Aura_L3-OMTO3e_2005m1214_v002-2006m0929t143855.he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19"/>
          <p:cNvSpPr/>
          <p:nvPr/>
        </p:nvSpPr>
        <p:spPr>
          <a:xfrm>
            <a:off x="5724360" y="3255840"/>
            <a:ext cx="1000440" cy="1076400"/>
          </a:xfrm>
          <a:prstGeom prst="pie">
            <a:avLst/>
          </a:prstGeom>
          <a:solidFill>
            <a:srgbClr val="bf9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TLAB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5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BADD-69B0-4925-BE3D-72D58BA52A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Box 6"/>
          <p:cNvSpPr/>
          <p:nvPr/>
        </p:nvSpPr>
        <p:spPr>
          <a:xfrm>
            <a:off x="-25560" y="1257480"/>
            <a:ext cx="9036360" cy="4069800"/>
          </a:xfrm>
          <a:prstGeom prst="rect">
            <a:avLst/>
          </a:prstGeom>
          <a:solidFill>
            <a:srgbClr val="dde8f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&gt; h5ls –r –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/                       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/HDFEOS                 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/HDFEOS/ADDITIONAL      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/HDFEOS/ADDITIONAL/FILE_ATTRIBUTE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/HDFEOS/GRIDS           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/HDFEOS/GRIDS/OMI\ Column\ Amount\ O3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/HDFEOS/GRIDS/OMI\ Column\ Amount\ O3/Data\ Field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/HDFEOS/GRIDS/OMI\ Column\ Amount\ O3/Data\ Fields/ColumnAmountO3 Dataset {720,1440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/HDFEOS/GRIDS/OMI\ Column\ Amount\ O3/Data\ Fields/Reflectivity331 Dataset {720,1440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/HDFEOS/GRIDS/OMI\ Column\ Amount\ O3/Data\ Fields/UVAerosolIndex Dataset {720,1440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/HDFEOS\ INFORMATION    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/HDFEOS\ INFORMATION/StructMetadata.0 Dataset {SCALAR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5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AE81-97EA-4527-A533-2BD163F02A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95400" y="952560"/>
            <a:ext cx="8943840" cy="5517000"/>
          </a:xfrm>
          <a:prstGeom prst="rect">
            <a:avLst/>
          </a:prstGeom>
          <a:solidFill>
            <a:srgbClr val="dde8f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&gt; h5dump 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HDF5 "OMI-Aura_L3-OMTO3e_2005m1214_v002-2006m0929t143855.he5"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GROUP "/"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GROUP "HDFEOS"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GROUP "ADDITIONAL"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GROUP "FILE_ATTRIBUTES"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ATTRIBUTE "EndUTC"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DATATYPE  H5T_STRING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GROUP "Data Fields"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DATASET "ColumnAmountO3"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DATATYPE  H5T_IEEE_F32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DATASPACE  SIMPLE { ( 720, 1440 ) / ( 720, 1440 )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ATTRIBUTE "MissingValue"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DATATYPE  H5T_IEEE_F32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DATASPACE  SIMPLE { ( 1 ) / ( 1 )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Lucida Sans Typewriter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consists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e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lf-describing, structures to support high-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yers for compatibility and exte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rformance fea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le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atase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datatype, dataspace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attribu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grou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lin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designed to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of high-volume, complex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sharing and preser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CA1C-47DE-4B32-A20A-6879B95232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tch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8A72-6325-4D23-93E7-AE6DBD98EF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2" descr="C:\Users\Administrator\AppData\Local\Microsoft\Windows\Temporary Internet Files\Content.IE5\YFS9K5HA\MC900289001[1].wmf"/>
          <p:cNvPicPr/>
          <p:nvPr/>
        </p:nvPicPr>
        <p:blipFill>
          <a:blip r:embed="rId1"/>
          <a:stretch/>
        </p:blipFill>
        <p:spPr>
          <a:xfrm>
            <a:off x="311040" y="2305080"/>
            <a:ext cx="3456000" cy="32004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5"/>
          <p:cNvSpPr/>
          <p:nvPr/>
        </p:nvSpPr>
        <p:spPr>
          <a:xfrm>
            <a:off x="3301560" y="3200400"/>
            <a:ext cx="5617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while I start HDFView dem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with AURA fi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211A-1EDD-4877-9F3D-BA22B5471D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itle 8"/>
          <p:cNvSpPr/>
          <p:nvPr/>
        </p:nvSpPr>
        <p:spPr>
          <a:xfrm>
            <a:off x="114300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Diagram 34" descr=""/>
          <p:cNvPicPr/>
          <p:nvPr/>
        </p:nvPicPr>
        <p:blipFill>
          <a:blip r:embed="rId1"/>
          <a:stretch/>
        </p:blipFill>
        <p:spPr>
          <a:xfrm>
            <a:off x="950760" y="1390680"/>
            <a:ext cx="756468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Technology Plat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50880" y="1076400"/>
            <a:ext cx="5638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8240" indent="-3182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6520" indent="-31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“building blocks” for data organization and specif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6520" indent="-31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brary, language interfaces, too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le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6520" indent="-31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t-level organization of HDF5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6520" indent="-31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f-describ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6520" indent="-31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ed for high-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1508-6B87-4834-B441-C9178789B2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C:\Users\Administrator\AppData\Local\Microsoft\Windows\Temporary Internet Files\Content.IE5\DWAJU5RV\MC900078768[1].wmf"/>
          <p:cNvPicPr/>
          <p:nvPr/>
        </p:nvPicPr>
        <p:blipFill>
          <a:blip r:embed="rId1"/>
          <a:stretch/>
        </p:blipFill>
        <p:spPr>
          <a:xfrm>
            <a:off x="152280" y="2286000"/>
            <a:ext cx="3198960" cy="28242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1"/>
          <p:cNvSpPr/>
          <p:nvPr/>
        </p:nvSpPr>
        <p:spPr>
          <a:xfrm rot="20145000">
            <a:off x="1090080" y="2782800"/>
            <a:ext cx="192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wa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amentally, HDF5 software operates on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in the HDF5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a logical model to an HDF5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nstruct a logical model from an HDF5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w data values in datasets and attrib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 values to an HDF5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values from an HDF5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br>
              <a:rPr sz="2400"/>
            </a:br>
            <a:r>
              <a:rPr b="0" i="1" lang="en-US" sz="2400" spc="-1" strike="noStrike">
                <a:solidFill>
                  <a:srgbClr val="0033cc"/>
                </a:solidFill>
                <a:latin typeface="Calibri"/>
              </a:rPr>
              <a:t>Note:  Updates, partial writes, and partial reads are suppor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6D66-F8CD-4885-8CDB-8DF065257C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Pi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1AB0-4475-4F7A-B676-4197FAB706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itle 8"/>
          <p:cNvSpPr/>
          <p:nvPr/>
        </p:nvSpPr>
        <p:spPr>
          <a:xfrm>
            <a:off x="114300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8"/>
          <p:cNvSpPr/>
          <p:nvPr/>
        </p:nvSpPr>
        <p:spPr>
          <a:xfrm>
            <a:off x="1495440" y="3448080"/>
            <a:ext cx="6143760" cy="2114640"/>
          </a:xfrm>
          <a:prstGeom prst="pie">
            <a:avLst/>
          </a:prstGeom>
          <a:solidFill>
            <a:srgbClr val="0000ff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19"/>
          <p:cNvSpPr/>
          <p:nvPr/>
        </p:nvSpPr>
        <p:spPr>
          <a:xfrm>
            <a:off x="2324160" y="2465280"/>
            <a:ext cx="4495680" cy="851040"/>
          </a:xfrm>
          <a:prstGeom prst="pie">
            <a:avLst/>
          </a:prstGeom>
          <a:solidFill>
            <a:srgbClr val="78b832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er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Up-Down Arrow 20" descr=""/>
          <p:cNvPicPr/>
          <p:nvPr/>
        </p:nvPicPr>
        <p:blipFill>
          <a:blip r:embed="rId1"/>
          <a:stretch/>
        </p:blipFill>
        <p:spPr>
          <a:xfrm>
            <a:off x="450720" y="3322800"/>
            <a:ext cx="579600" cy="2279520"/>
          </a:xfrm>
          <a:prstGeom prst="rect">
            <a:avLst/>
          </a:prstGeom>
          <a:ln w="0">
            <a:noFill/>
          </a:ln>
        </p:spPr>
      </p:pic>
      <p:pic>
        <p:nvPicPr>
          <p:cNvPr id="173" name="Up-Down Arrow 21" descr=""/>
          <p:cNvPicPr/>
          <p:nvPr/>
        </p:nvPicPr>
        <p:blipFill>
          <a:blip r:embed="rId2"/>
          <a:stretch/>
        </p:blipFill>
        <p:spPr>
          <a:xfrm>
            <a:off x="7961400" y="3303720"/>
            <a:ext cx="579240" cy="227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Users\Administrator\AppData\Local\Microsoft\Windows\Temporary Internet Files\Content.IE5\YFS9K5HA\MC900078625[1].wmf"/>
          <p:cNvPicPr/>
          <p:nvPr/>
        </p:nvPicPr>
        <p:blipFill>
          <a:blip r:embed="rId3"/>
          <a:stretch/>
        </p:blipFill>
        <p:spPr>
          <a:xfrm>
            <a:off x="2833560" y="857160"/>
            <a:ext cx="586080" cy="1779840"/>
          </a:xfrm>
          <a:prstGeom prst="rect">
            <a:avLst/>
          </a:prstGeom>
          <a:ln w="0">
            <a:noFill/>
          </a:ln>
        </p:spPr>
      </p:pic>
      <p:sp>
        <p:nvSpPr>
          <p:cNvPr id="175" name="Cloud Callout 24"/>
          <p:cNvSpPr/>
          <p:nvPr/>
        </p:nvSpPr>
        <p:spPr>
          <a:xfrm>
            <a:off x="1495440" y="857160"/>
            <a:ext cx="1380960" cy="819360"/>
          </a:xfrm>
          <a:prstGeom prst="cloudCallout">
            <a:avLst>
              <a:gd name="adj1" fmla="val 60027"/>
              <a:gd name="adj2" fmla="val -21185"/>
            </a:avLst>
          </a:prstGeom>
          <a:solidFill>
            <a:srgbClr val="00843c"/>
          </a:solidFill>
          <a:ln w="936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ent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del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lowchart: Document 25"/>
          <p:cNvSpPr/>
          <p:nvPr/>
        </p:nvSpPr>
        <p:spPr>
          <a:xfrm>
            <a:off x="3728880" y="5646600"/>
            <a:ext cx="1686240" cy="868680"/>
          </a:xfrm>
          <a:prstGeom prst="flowChartDocument">
            <a:avLst/>
          </a:prstGeom>
          <a:solidFill>
            <a:srgbClr val="8c3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Philosophy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software library (from The HDF Grou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 to adapt I/O and storage to data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yers above and be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well with other technolog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 to compat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AA28-F366-47F1-9987-0D14658F5E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1"/>
          <p:cNvSpPr/>
          <p:nvPr/>
        </p:nvSpPr>
        <p:spPr>
          <a:xfrm>
            <a:off x="61920" y="4971960"/>
            <a:ext cx="9082080" cy="428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 Layers – Library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EBC7-8224-48B0-A744-00A70045EF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itle 8"/>
          <p:cNvSpPr/>
          <p:nvPr/>
        </p:nvSpPr>
        <p:spPr>
          <a:xfrm>
            <a:off x="114300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8"/>
          <p:cNvSpPr/>
          <p:nvPr/>
        </p:nvSpPr>
        <p:spPr>
          <a:xfrm>
            <a:off x="1500120" y="2914560"/>
            <a:ext cx="6143760" cy="1076400"/>
          </a:xfrm>
          <a:prstGeom prst="pi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Library Internal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emory management, conversions, other detail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9"/>
          <p:cNvSpPr/>
          <p:nvPr/>
        </p:nvSpPr>
        <p:spPr>
          <a:xfrm>
            <a:off x="2319480" y="979560"/>
            <a:ext cx="4495680" cy="850680"/>
          </a:xfrm>
          <a:prstGeom prst="pie">
            <a:avLst/>
          </a:prstGeom>
          <a:solidFill>
            <a:srgbClr val="78b832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er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lowchart: Document 13"/>
          <p:cNvSpPr/>
          <p:nvPr/>
        </p:nvSpPr>
        <p:spPr>
          <a:xfrm>
            <a:off x="1995480" y="5513400"/>
            <a:ext cx="1195560" cy="773280"/>
          </a:xfrm>
          <a:prstGeom prst="flowChartDocument">
            <a:avLst/>
          </a:prstGeom>
          <a:solidFill>
            <a:srgbClr val="8c3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14"/>
          <p:cNvSpPr/>
          <p:nvPr/>
        </p:nvSpPr>
        <p:spPr>
          <a:xfrm>
            <a:off x="1509840" y="3990960"/>
            <a:ext cx="6143400" cy="961920"/>
          </a:xfrm>
          <a:prstGeom prst="pi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Virtual File I/O Driver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osix I/O, Split Files, MPI I/O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lowchart: Document 15"/>
          <p:cNvSpPr/>
          <p:nvPr/>
        </p:nvSpPr>
        <p:spPr>
          <a:xfrm>
            <a:off x="3471840" y="5532480"/>
            <a:ext cx="1262160" cy="716040"/>
          </a:xfrm>
          <a:prstGeom prst="flowChartDocument">
            <a:avLst/>
          </a:prstGeom>
          <a:solidFill>
            <a:srgbClr val="8c3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lowchart: Document 16"/>
          <p:cNvSpPr/>
          <p:nvPr/>
        </p:nvSpPr>
        <p:spPr>
          <a:xfrm>
            <a:off x="3595680" y="5684760"/>
            <a:ext cx="1262160" cy="716040"/>
          </a:xfrm>
          <a:prstGeom prst="flowChartDocument">
            <a:avLst/>
          </a:prstGeom>
          <a:solidFill>
            <a:srgbClr val="8c3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plit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9"/>
          <p:cNvGrpSpPr/>
          <p:nvPr/>
        </p:nvGrpSpPr>
        <p:grpSpPr>
          <a:xfrm>
            <a:off x="5268960" y="5268960"/>
            <a:ext cx="2090520" cy="1332000"/>
            <a:chOff x="5268960" y="5268960"/>
            <a:chExt cx="2090520" cy="1332000"/>
          </a:xfrm>
        </p:grpSpPr>
        <p:grpSp>
          <p:nvGrpSpPr>
            <p:cNvPr id="193" name="Group 28"/>
            <p:cNvGrpSpPr/>
            <p:nvPr/>
          </p:nvGrpSpPr>
          <p:grpSpPr>
            <a:xfrm>
              <a:off x="5268960" y="5268960"/>
              <a:ext cx="2090520" cy="1332000"/>
              <a:chOff x="5268960" y="5268960"/>
              <a:chExt cx="2090520" cy="1332000"/>
            </a:xfrm>
          </p:grpSpPr>
          <p:sp>
            <p:nvSpPr>
              <p:cNvPr id="194" name="Can 22"/>
              <p:cNvSpPr/>
              <p:nvPr/>
            </p:nvSpPr>
            <p:spPr>
              <a:xfrm>
                <a:off x="5268960" y="5268960"/>
                <a:ext cx="838080" cy="1056960"/>
              </a:xfrm>
              <a:prstGeom prst="can">
                <a:avLst>
                  <a:gd name="adj" fmla="val 19819"/>
                </a:avLst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Can 26"/>
              <p:cNvSpPr/>
              <p:nvPr/>
            </p:nvSpPr>
            <p:spPr>
              <a:xfrm>
                <a:off x="5840280" y="5421240"/>
                <a:ext cx="838080" cy="1056960"/>
              </a:xfrm>
              <a:prstGeom prst="can">
                <a:avLst>
                  <a:gd name="adj" fmla="val 19819"/>
                </a:avLst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Can 25"/>
              <p:cNvSpPr/>
              <p:nvPr/>
            </p:nvSpPr>
            <p:spPr>
              <a:xfrm>
                <a:off x="6521400" y="5544000"/>
                <a:ext cx="838080" cy="1056960"/>
              </a:xfrm>
              <a:prstGeom prst="can">
                <a:avLst>
                  <a:gd name="adj" fmla="val 19819"/>
                </a:avLst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Flowchart: Document 17"/>
            <p:cNvSpPr/>
            <p:nvPr/>
          </p:nvSpPr>
          <p:spPr>
            <a:xfrm>
              <a:off x="5368680" y="5591520"/>
              <a:ext cx="1604880" cy="886320"/>
            </a:xfrm>
            <a:prstGeom prst="flowChartDocument">
              <a:avLst/>
            </a:prstGeom>
            <a:solidFill>
              <a:srgbClr val="8c3fc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File on 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Parallel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Filesyst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TextBox 32"/>
          <p:cNvSpPr/>
          <p:nvPr/>
        </p:nvSpPr>
        <p:spPr>
          <a:xfrm>
            <a:off x="61920" y="498312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S, MPI-IO, Filesystem, SAN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34"/>
          <p:cNvSpPr/>
          <p:nvPr/>
        </p:nvSpPr>
        <p:spPr>
          <a:xfrm>
            <a:off x="1500120" y="1838160"/>
            <a:ext cx="6143760" cy="1076400"/>
          </a:xfrm>
          <a:prstGeom prst="pi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Object APIs (in 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chema +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Up-Down Arrow 35" descr=""/>
          <p:cNvPicPr/>
          <p:nvPr/>
        </p:nvPicPr>
        <p:blipFill>
          <a:blip r:embed="rId1"/>
          <a:stretch/>
        </p:blipFill>
        <p:spPr>
          <a:xfrm>
            <a:off x="719280" y="1822320"/>
            <a:ext cx="579240" cy="3146400"/>
          </a:xfrm>
          <a:prstGeom prst="rect">
            <a:avLst/>
          </a:prstGeom>
          <a:ln w="0">
            <a:noFill/>
          </a:ln>
        </p:spPr>
      </p:pic>
      <p:pic>
        <p:nvPicPr>
          <p:cNvPr id="201" name="Up-Down Arrow 36" descr=""/>
          <p:cNvPicPr/>
          <p:nvPr/>
        </p:nvPicPr>
        <p:blipFill>
          <a:blip r:embed="rId2"/>
          <a:stretch/>
        </p:blipFill>
        <p:spPr>
          <a:xfrm>
            <a:off x="7961400" y="1822320"/>
            <a:ext cx="579240" cy="3146400"/>
          </a:xfrm>
          <a:prstGeom prst="rect">
            <a:avLst/>
          </a:prstGeom>
          <a:ln w="0">
            <a:noFill/>
          </a:ln>
        </p:spPr>
      </p:pic>
      <p:sp>
        <p:nvSpPr>
          <p:cNvPr id="202" name="Freeform 38"/>
          <p:cNvSpPr/>
          <p:nvPr/>
        </p:nvSpPr>
        <p:spPr>
          <a:xfrm>
            <a:off x="1500120" y="1838160"/>
            <a:ext cx="6143760" cy="1076400"/>
          </a:xfrm>
          <a:prstGeom prst="pi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Object APIs (in C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chema + Data  </a:t>
            </a:r>
            <a:r>
              <a:rPr b="0" lang="en-US" sz="2000" spc="-1" strike="noStrike">
                <a:solidFill>
                  <a:srgbClr val="ff4040"/>
                </a:solidFill>
                <a:latin typeface="Calibri"/>
              </a:rPr>
              <a:t>+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Up-Down Arrow 37" descr=""/>
          <p:cNvPicPr/>
          <p:nvPr/>
        </p:nvPicPr>
        <p:blipFill>
          <a:blip r:embed="rId3"/>
          <a:stretch/>
        </p:blipFill>
        <p:spPr>
          <a:xfrm>
            <a:off x="6791400" y="1822320"/>
            <a:ext cx="57924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Software (in 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brary and full set of HDF5 Object APIs written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rtable across platforms (in 199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-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is not object-oriented, but we have HDF5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classes in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ulated through naming conven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object instances in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ulated through identif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er (handle) returned when object cre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er used to invoke methods on specific instance of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2CEF-A7E5-426F-A368-6723026070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9:20:56Z</dcterms:created>
  <dc:creator>Ruth Aydt</dc:creator>
  <dc:description/>
  <dc:language>en-US</dc:language>
  <cp:lastModifiedBy>Anastasia Alexov</cp:lastModifiedBy>
  <dcterms:modified xsi:type="dcterms:W3CDTF">2010-09-14T08:05:44Z</dcterms:modified>
  <cp:revision>299</cp:revision>
  <dc:subject/>
  <dc:title>Slide 1</dc:title>
</cp:coreProperties>
</file>